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908A-3618-4250-9FCC-FDCC31CC9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9962-6EBE-4B8D-9827-B307A4F44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AC79-A5F0-494B-AC2E-21CFC8778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B4CA-F12A-43B4-A886-586A1922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8674-C37D-4847-8034-AB087912F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5855-B4C6-45A3-A90B-EFE11B98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6CB0-467D-40DF-8B04-23A07F70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E83-5352-4CA9-AB96-3ADEDE1E8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FC32-25B6-448F-9E9A-D3ABB11E8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925F-56BD-4C2A-800C-D415DA6C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933-73D2-4CCA-9F41-5C7E525F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3BE2-9756-4930-AED2-EA808F19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761C-9ACC-4ABD-B41B-740AE005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AC4-6E5C-46D4-B2E8-875894B12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C00-23B8-481E-A823-D93A5EAC7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D19-B54D-4CAC-8A99-4F151B158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713-C270-40C2-9E86-707788BE6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B7F8-3CBC-420C-8C72-E71E1B54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AC88-861B-4AB2-ABC2-442EBB95B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CB61-ADB1-46B2-97CA-234CB511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6D5-B5BF-4915-AC55-C5313595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E45C-B961-4C13-A699-E1EE45BFF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2DE9-B9BD-4859-ADE6-E3D29A2F2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96ED-7C66-4573-AB5F-0C2317CC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269F-A2D2-4E0E-9C08-C7B226F8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070-F78A-4C3F-A2F7-A0C4DD74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C6A-EEC7-4468-AC1F-EB8B08C5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A44E-267C-4B3D-903A-4E22FF72D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1CA-5929-4E5C-9554-56E70EFF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8A8B-2DB6-436B-89AA-7ED887710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F850-3ADA-454A-B929-3781B5617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ED3A-8C3C-4EF8-8580-4C7F0812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E3EE-5ADE-4044-BA21-6A524BD80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12D-9437-4EC0-A71E-AF2111A85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F95C-9809-4911-9165-EA0441D18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4B80-9D6E-4842-B8EB-8B20EEC0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71DB-6BFA-4355-B817-49E3CE069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1FC0-3A46-4556-B33C-717B3D939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2153-8305-4163-9296-E80FFCE46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3C59-DB3C-44F0-8100-DA3746CA9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99E4-E2AF-4426-A1D8-97F39D15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18363-347D-4C01-B9F3-CEA8EB38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11631-E565-420E-BFF2-1E96E33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8F3B4-0AAC-4FAC-B550-3EF4A5FE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6095E-C154-478F-97F4-9517B9EA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048C8-CC13-4F4B-8CF4-7001FAA6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046D4-2D26-4A04-BC76-7F0E3705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82C1-371E-4BCA-B144-12A4D7BC1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6DC23-AE72-4FE6-B675-883C997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8581E-DF5A-4835-B1C5-D557849E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81E09-A81F-4F1F-A46F-AFC3522E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DFD3C-40A2-4C70-99F7-FB5B1FAB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D6C89-FDD1-4AAF-9917-5BA77170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E4E0C-353F-4D1C-B412-E823262D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B29CC-AE10-4CA5-8527-D633EBE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4C364-90E8-45E2-ABBC-9C50A041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55EB9-AA95-45A7-9A70-EBC5E91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9DE3B-40FA-44FE-931F-8140099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3B65-D74C-4F32-9F1D-7504692D04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16F8D-22C6-40EC-96FE-3316A3D9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880D1-A630-479E-91DB-530A1F06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DE862-ACA3-4B20-9ABB-7F4282C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AD998-8A24-4F28-A138-6BFF90A6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98F89-233B-4B6D-AC36-30F3E7E2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AF2F1-D65A-4FB0-9AF9-BE961B5E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D6D3B-B17A-4FB7-B6A0-A662CF01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D9F9-C18D-4C1F-80D9-F22354EBC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2DE1-5FF2-4E8F-93F2-5C2457C7A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9377-53BF-4AA7-B17A-88D1143F5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5C4F-717F-4FD8-A1E9-9C22776FB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5C7D-7982-4070-BF50-4D1586944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6BFD-3E72-4CFF-97B1-EF388CA4A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40E6-5FAC-443A-BA22-9D685A18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978D-E643-45D7-98B6-DCAFF17F4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6812-47B0-4050-B793-F97F13D04A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7914-6DF0-4889-BC78-6ED3F5169B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917-C879-4F1E-AE97-EF4D6D7A4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ware Testing  </a:t>
            </a:r>
            <a:br>
              <a:rPr sz="42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sting Strategy and Debug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82600" y="3779640"/>
            <a:ext cx="6778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2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1947-56CA-4B5B-836F-4FD498262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CFA0B-0531-4247-B5CD-74BC42ECB7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ized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itivity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26B1-2DDE-4919-B537-8F75F00DE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C898-52FF-4F6A-B50B-52A7B1685F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ing slide to be inse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and Litigation of Poor  Software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1EE2-A469-47C3-95CB-BFB9E7ABC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6723-011E-409E-A225-184C11823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and Litigation of Poor  Software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81080"/>
          <a:ext cx="7772400" cy="4175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able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ware Involved in Litigation for Poor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routine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unction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hed or o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hed or o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ion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hed or o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ance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hed or o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ty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hed or o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EFD4-08CE-453C-A839-E02E763909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3779640"/>
            <a:ext cx="67788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DDB9-C429-4106-8D52-000C12F1E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258B6-0309-46E9-8F29-9AA80FFC49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testing is a process that can be systematically planned and 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case design can be conducted, a strategy can be defined, and results can be evaluated against prescribed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6E29-39D0-4694-9A4C-17D8DB96C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E447-000B-4752-A9EB-130CC907F0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ing occurs as a consequence of successful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when a test case uncovers 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ing is the process that results in the removal of the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debugging can and should be a process, it is still very much an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343-32DE-43E6-9594-9EA3200C9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7D5D-1586-46E3-BF5C-C66D3CD52D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ftware engineer, evaluating the results of a test, is often confronted with a “symptomatic” indication of a softwar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he external manifestation of the error and the internal cause of the error may have no obvious relationship to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1E53-BBA8-45E8-9577-0F0E430B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D991-AC3B-4691-8675-225CA25F2C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ing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orly understood mental process that connects a symptom to a cause is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ing is not testing but always occurs as a consequence of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AEEE-B922-4E44-8E37-BCF335239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583C-BB77-4DA6-A707-721406E96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bugg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2ACD-D8D0-4191-8A94-18C69DA81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9800" y="2124000"/>
            <a:ext cx="71434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C6AB3-F20E-4A5F-9D40-785BD32805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bugging Proces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with the execution of a test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are assessed and a lack of correspondence between expected and actual performance is encou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ny cases, the non-correspondence data are a symptom of an underlying cause as yet h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bugging process attempts to match symptom with cause, thereby leading to 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8C8-4FD8-404D-BE1B-6B1159E2E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DCA5-A4A7-4BE5-8001-847F6879F1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last lecture, we had discussed testing strategies in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129A-D46D-4D83-A3E5-AE2E6A1E0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1B7D-E78C-4476-8A0C-0F659DFCB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bugging Process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bugging process will always have one of two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use will be found and cor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use will not b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econd case, the person performing debugging may suspect a cause, design a test case to help validate that suspicion, and work toward error correction in an iterative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8B73-C86A-4741-950F-F9AD05ED1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589E-8AC6-435D-A875-8FA78A528F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3280" y="597960"/>
            <a:ext cx="8007480" cy="6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ing Eff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3909960" y="1440000"/>
            <a:ext cx="2774880" cy="3165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4"/>
          <p:cNvSpPr/>
          <p:nvPr/>
        </p:nvSpPr>
        <p:spPr>
          <a:xfrm>
            <a:off x="3102120" y="3773520"/>
            <a:ext cx="3684600" cy="1754280"/>
          </a:xfrm>
          <a:prstGeom prst="pi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5"/>
          <p:cNvSpPr/>
          <p:nvPr/>
        </p:nvSpPr>
        <p:spPr>
          <a:xfrm>
            <a:off x="2465280" y="1866960"/>
            <a:ext cx="1865520" cy="3132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6"/>
          <p:cNvSpPr/>
          <p:nvPr/>
        </p:nvSpPr>
        <p:spPr>
          <a:xfrm>
            <a:off x="3909960" y="1440000"/>
            <a:ext cx="2774880" cy="2835000"/>
          </a:xfrm>
          <a:prstGeom prst="pi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834160" y="1860480"/>
            <a:ext cx="203004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im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o diagnos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ympto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determin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351440" y="2603520"/>
            <a:ext cx="24645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im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o correct th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nd con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regressio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94F8-81B1-4C64-815F-29BCCFFF668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bugging Process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bugging process is a human-oriente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are good at it and others are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variances are reported in debugging ability for programmers with the same education and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1CD-DF0B-4EE0-9D8F-58DA572F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AFF8-FD68-4B7D-BCC2-49840CD574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is one the more frustrating parts of programming. It has elements of problem solving or brain teasers, coupled with the annoying recognition that you have made a mistake. Heightened anxiety and unwillingness to accept the possibility of errors increases the task difficulty. Fortunately, there is a great sigh of relief and a lessening of tension when the bug is ultimately cor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E55-00D4-4F08-B257-C66CBA024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C594-F10C-4BA6-B410-87492E267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Bugs/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3C70-BA2A-44D8-B466-99F34F726F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Bug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The symptom and cause may be geographically remote. That is, the symptom may appear in one part of the program, while the cause may actually be located at a site that is far removed. Highly coupled program structures exacerbate this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8DA7-40B2-4C14-8E04-44A16411D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BB2B-8608-4C2A-90D1-10E81368BC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Bugs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The symptom may disappear (temporarily) when another error i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 The symptom may actually be caused by non-errors (e.g., round-off inaccura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 The symptom may be caused by human error that is not easily tra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5) The symptom may be a result of timing problems, rather than process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B55-D9A4-4460-9171-624C3C95F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2931-FFFB-4CF9-9F6B-5899EDE60B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Bugs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6) It may be difficult to accurately reproduce input conditions (e.g., a real-time application in which input ordering is indetermin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) The symptom may be intermittent. This is particularly common in embedded systems that couple hardware and software inextrica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AB55-7177-4ED2-AA44-3FFC27C03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932A-A357-4CD1-A221-ABCF09FC62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Bugs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8) The symptom may be due to causes that are distributed across a number of tasks running on different proc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24FE-6166-4DF4-9009-8FFF7C0B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ED94-539D-4ACB-BDEB-2D4279DF51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562040" y="1157400"/>
            <a:ext cx="6121440" cy="3814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68600" y="442800"/>
            <a:ext cx="602280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quences of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4"/>
          <p:cNvSpPr/>
          <p:nvPr/>
        </p:nvSpPr>
        <p:spPr>
          <a:xfrm>
            <a:off x="2362320" y="1814400"/>
            <a:ext cx="3938400" cy="27021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5"/>
          <p:cNvSpPr/>
          <p:nvPr/>
        </p:nvSpPr>
        <p:spPr>
          <a:xfrm>
            <a:off x="2349360" y="1800360"/>
            <a:ext cx="3938760" cy="27018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2260440" y="1328760"/>
            <a:ext cx="141480" cy="3099960"/>
            <a:chOff x="2260440" y="1328760"/>
            <a:chExt cx="141480" cy="3099960"/>
          </a:xfrm>
        </p:grpSpPr>
        <p:sp>
          <p:nvSpPr>
            <p:cNvPr id="242" name="Freeform 7"/>
            <p:cNvSpPr/>
            <p:nvPr/>
          </p:nvSpPr>
          <p:spPr>
            <a:xfrm>
              <a:off x="2260440" y="1328760"/>
              <a:ext cx="141480" cy="330480"/>
            </a:xfrm>
            <a:prstGeom prst="pie">
              <a:avLst/>
            </a:pr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>
              <a:off x="2336760" y="1671480"/>
              <a:ext cx="0" cy="2757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2336760" y="4400640"/>
            <a:ext cx="4903920" cy="158400"/>
            <a:chOff x="2336760" y="4400640"/>
            <a:chExt cx="4903920" cy="158400"/>
          </a:xfrm>
        </p:grpSpPr>
        <p:sp>
          <p:nvSpPr>
            <p:cNvPr id="245" name="Freeform 10"/>
            <p:cNvSpPr/>
            <p:nvPr/>
          </p:nvSpPr>
          <p:spPr>
            <a:xfrm>
              <a:off x="6946920" y="4400640"/>
              <a:ext cx="293760" cy="158400"/>
            </a:xfrm>
            <a:prstGeom prst="pie">
              <a:avLst/>
            </a:pr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>
              <a:off x="2336760" y="4485960"/>
              <a:ext cx="459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12"/>
          <p:cNvSpPr/>
          <p:nvPr/>
        </p:nvSpPr>
        <p:spPr>
          <a:xfrm>
            <a:off x="1716480" y="2003400"/>
            <a:ext cx="113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2667240" y="4060800"/>
            <a:ext cx="74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3305520" y="391788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3876480" y="3446640"/>
            <a:ext cx="142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ur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4586400" y="3146400"/>
            <a:ext cx="1047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4953960" y="2789280"/>
            <a:ext cx="116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5514480" y="2503440"/>
            <a:ext cx="165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strop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6300720" y="1617840"/>
            <a:ext cx="138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c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20"/>
          <p:cNvSpPr/>
          <p:nvPr/>
        </p:nvSpPr>
        <p:spPr>
          <a:xfrm>
            <a:off x="2660760" y="4065480"/>
            <a:ext cx="63360" cy="85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21"/>
          <p:cNvSpPr/>
          <p:nvPr/>
        </p:nvSpPr>
        <p:spPr>
          <a:xfrm>
            <a:off x="3346560" y="3906720"/>
            <a:ext cx="63360" cy="85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22"/>
          <p:cNvSpPr/>
          <p:nvPr/>
        </p:nvSpPr>
        <p:spPr>
          <a:xfrm>
            <a:off x="3879720" y="3492360"/>
            <a:ext cx="7632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23"/>
          <p:cNvSpPr/>
          <p:nvPr/>
        </p:nvSpPr>
        <p:spPr>
          <a:xfrm>
            <a:off x="4540320" y="3208320"/>
            <a:ext cx="7596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4971960" y="2820960"/>
            <a:ext cx="637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25"/>
          <p:cNvSpPr/>
          <p:nvPr/>
        </p:nvSpPr>
        <p:spPr>
          <a:xfrm>
            <a:off x="5454720" y="2592360"/>
            <a:ext cx="7596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6"/>
          <p:cNvSpPr/>
          <p:nvPr/>
        </p:nvSpPr>
        <p:spPr>
          <a:xfrm>
            <a:off x="6229440" y="1751040"/>
            <a:ext cx="63360" cy="85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5364000" y="4518000"/>
            <a:ext cx="139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28"/>
          <p:cNvSpPr/>
          <p:nvPr/>
        </p:nvSpPr>
        <p:spPr>
          <a:xfrm>
            <a:off x="5651640" y="1943280"/>
            <a:ext cx="941400" cy="1299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29"/>
          <p:cNvSpPr/>
          <p:nvPr/>
        </p:nvSpPr>
        <p:spPr>
          <a:xfrm>
            <a:off x="5638680" y="1928880"/>
            <a:ext cx="941400" cy="1299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30"/>
          <p:cNvSpPr/>
          <p:nvPr/>
        </p:nvSpPr>
        <p:spPr>
          <a:xfrm>
            <a:off x="5473800" y="2000160"/>
            <a:ext cx="941400" cy="1303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31"/>
          <p:cNvSpPr/>
          <p:nvPr/>
        </p:nvSpPr>
        <p:spPr>
          <a:xfrm>
            <a:off x="5460840" y="1986120"/>
            <a:ext cx="941400" cy="1299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2250000" y="5018040"/>
            <a:ext cx="21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Bug Cate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3"/>
          <p:cNvSpPr/>
          <p:nvPr/>
        </p:nvSpPr>
        <p:spPr>
          <a:xfrm>
            <a:off x="4060080" y="5018040"/>
            <a:ext cx="31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unction-related bug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2267640" y="5289480"/>
            <a:ext cx="571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ystem-related bugs, data bugs, coding bug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2268360" y="5546880"/>
            <a:ext cx="563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design bugs, documentation bugs,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6"/>
          <p:cNvSpPr/>
          <p:nvPr/>
        </p:nvSpPr>
        <p:spPr>
          <a:xfrm>
            <a:off x="2251800" y="5803920"/>
            <a:ext cx="197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viola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B83A-6850-438E-B53A-F1225D5CFCF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talk about validation testing and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E95B-ECFE-4F25-A4AC-12FCADD3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C507-6010-4411-8E74-1735B33594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ing Approache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rdless of the approach that is taken, debugging has one overriding objective: to find and correct the cause of a software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 is realized by a combination of systematic evaluation, intuition, and l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7662-F134-4379-B7BA-E6D5FE709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5D24-04D3-4929-8177-F4E871C026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bugging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t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el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DD2B-6F64-4478-B5B5-7A174B167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0F71-3C4B-4DA4-9570-59BF9AA4FE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ute Force Debugg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rute force debugging is probably the most common and least efficient method for isolating the cause of a software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pply brute force debugging methods when all else fails, using a “let the computer find the errors” philosophy, memory dumps are taken, run-time traces are invoked, and the program is loaded with WRITE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3E52-EC87-428E-99F5-3F67E8596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D488-EEBF-4600-B298-EBB521636E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ute Force Debugg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ope that somewhere in the morass of information that is produced we will find a clue that can lead us to the cause of 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 mass of information produced may ultimately lead to success, it more frequently leads to wasted effort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ou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expended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480-9B60-4FD9-8389-8817538BE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044D-4391-4AD3-9491-A6E0738E61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tracking Debu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tracking is a fairly common debugging approach that can be used successfully in smal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at the site where a symptom has been uncovered, the source code is traced backward (manually) until the site of the cause is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number of source lines increases, the number of potential backward paths may become unmanageab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4CE-DED2-42BE-8568-037584119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25C7-73C8-45DC-9186-CBCB0CA722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 Elimination Debugg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elimination is manifested by induction or deduction and introduces the concept of binary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lated to the error occurrence are organized to isolate potential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cause hypothesis” is devised and the aforementioned data are used to prove or disprove the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DA72-FDBA-4DA7-A8CF-F9F6E6FAE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A504-691D-42D0-BBCE-62F5235419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 Elimination Debugg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ly, a list of all possible causes is developed and tests are conducted to eliminate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itial tests indicate that a particular cause hypothesis shows promise, data are refined in an attempt to isolate the 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BB7E-4180-48C0-9DFA-C4DB6F7E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1FE7-F9EB-414A-9649-BBAB60D1F3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ing a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bug has been found, it must be cor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that at this time, new defects can be int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e need to ask three questions before we fix a bug or repair a software de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34E6-FA5D-4A57-8332-1A6911633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D940-EF55-41F9-9A2E-A89B0B4D23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before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cause of the bug reproduced in another part of the prog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“next bug” might be introduced by the fix I’m about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ld we have done to prevent this bug in the first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A53D-C67D-4F9B-AE88-C54537839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4B43-467C-4287-BC55-7B278BA2B6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 have discussed debugging – the process of removing defects from software after software testing has been successfully exercised and some observations of failures have been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ing is a human-oriented activity and productivity varies substantially, even for people with similar education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B3D0-4B6D-4EB9-A083-6A32CB13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DFAA-59DE-43D5-9A01-872720D6B7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6454-C2A4-4D80-85FB-2077E8C229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: A Practitioner’s Approach by Roger S. Pressman (Chapter 18.5 – 18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AB83-10CC-4E4D-8C29-FC73E78E3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5DC9-AE38-4B13-AF76-FC7068FE58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Test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 succeeds when software functions in a manner that can be reasonably expected by the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validation is achieved through a series of black-box tests that demonstrate conformity with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plan outlines the classes of tests to be conducted and a test procedure defines specific test cases that will be used to demonstrate conformity to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F345-843E-487F-ABEE-3404121C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6CB0-1CB1-4BC9-B91F-0C958392F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Test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est plan and procedure are designed to ensure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quirements are satis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behavioral characteristics are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erformance requirements are at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engineered and other requirements are m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800-9858-4CD1-BA93-D8C80204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1AE0-404E-47D5-BBBD-C435D4317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Testing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each validation test case has been conducted, one of two possible condition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The function or performance characteristics conform to specification and are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A deviation from specification is uncovered and a deficiency list i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C988-A246-46EC-9704-C050EC6C8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B2E6-F99F-4BC3-95C4-6B61D7257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Testing -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ation or error discovered at this stage in a project can rarely be corrected prior to scheduled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ften necessary to negotiate with customer to establish a method for resolving de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C270-B481-41EC-8D3C-887346C57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7D82-1AF9-4A7F-805F-8AC4CE939C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High-Order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ance testing (bespoke softw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 testing (at developer’s site by custo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testing (at customer site without developer’s pres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7F3E-BE44-48F3-BD9A-5C73B0E88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BCC1-5B8F-4D27-AC80-A5AE69AC52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9:05:19Z</dcterms:created>
  <dc:creator>Ghulam Ahmad Farrukh</dc:creator>
  <dc:description/>
  <dc:language>en-US</dc:language>
  <cp:lastModifiedBy>ahmadmohsin</cp:lastModifiedBy>
  <dcterms:modified xsi:type="dcterms:W3CDTF">2009-06-22T05:02:49Z</dcterms:modified>
  <cp:revision>377</cp:revision>
  <dc:subject/>
  <dc:title>Software Quality Assurance and Testing</dc:title>
</cp:coreProperties>
</file>